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EA6-C4B8-449E-86EC-84299FB1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F7C-60F2-4C62-AC18-B947DBC6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BD5-E0B0-4ACF-9DC9-B883C049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A84-10F0-44A8-8165-6AAFB3AC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E2A-23F3-4AE6-8F3F-28F0E76C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142-B321-4AD1-BB86-AF567767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5E8-6DAD-4EA9-9A35-14295465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C66-D8A8-44AB-9A98-6EBCB4E8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BD7-33A6-432B-A228-BC3D27F2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A89-A68C-42CC-9DD0-B17B71D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220-B332-445E-86BF-A60EE61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68D-598D-47C9-9EE8-DFF54C8A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AB3-4598-4E08-A750-AD85239FB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 the line y=3/4x+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Kirch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1:10:01Z</dcterms:created>
  <dc:creator>stolerma</dc:creator>
  <dc:description/>
  <dc:language>en-US</dc:language>
  <cp:lastModifiedBy>stolerma</cp:lastModifiedBy>
  <dcterms:modified xsi:type="dcterms:W3CDTF">2009-11-06T21:54:46Z</dcterms:modified>
  <cp:revision>5</cp:revision>
  <dc:subject/>
  <dc:title>Slide 1</dc:title>
</cp:coreProperties>
</file>